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BD3-BF35-4CEC-99C7-17456B4D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CB8-5C08-46CE-A7F0-B8567F3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914-A3E5-4A3C-B0EB-9242C565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ABF-DA7C-4E7B-AB7F-AB7BD0FD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756-E58D-40D2-BC8C-34416E98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BFE-7FD1-4D8A-BF1E-72C98D30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CF6-46EA-4AAB-8CCA-4E78F472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4A2-B04D-4BEC-881E-20F30530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059-A215-4380-96E5-CE90E76B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02D-F1C1-4B0F-9047-0FE3975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53C-B9DC-4BCF-B19F-E60EE09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078-E387-4FD6-876A-AABEA3B5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FF1-F41D-47A1-A763-6BD9B6B856F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4567-9577-4B48-B173-D1CD433AA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ast On-line Algorithm for PCA and its Convergence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429000"/>
            <a:ext cx="6858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dunandana N. Rao,  Jose C. Princ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NeuroEngineering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y of Florida, Gainesville, F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yadu, principe}@cnel.ufl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B3D-7EA2-4361-AEA3-9BEB7A1457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7AE10-3A48-495E-8C64-1DE43F3933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90920" y="3808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523880" y="1295280"/>
            <a:ext cx="259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ifferenc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Discrete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ifferenti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Continuous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685800"/>
            <a:ext cx="1676520" cy="60948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609480"/>
            <a:ext cx="1752480" cy="68580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1447920"/>
            <a:ext cx="83844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666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 Jacobian (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of the non-linear function                is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15000" y="2666880"/>
                <a:ext cx="1081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124080" y="3352680"/>
                <a:ext cx="26463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w</m:t>
                        </m:r>
                      </m:den>
                    </m:f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w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5800" y="42670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igenvalues of this matrix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4800600"/>
                <a:ext cx="74674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ag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4ED-475A-4144-9F29-8C183E65FC0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913AA-5272-43E9-8E77-4DBBA2C472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28600"/>
            <a:ext cx="838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igenvalues ar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ss than 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nce the continuous time system is stable around the stationary point, in this case, the eigen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98108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or continuous time systems, the eigenvalues are equivalent to the poles in the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oving from continuous time to discrete time, the poles in the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plane are transformed into poles in the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plane 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600200" y="3886200"/>
                <a:ext cx="41911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477120" y="4038480"/>
            <a:ext cx="152388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4876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3657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4756320"/>
            <a:ext cx="152280" cy="2728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4724280"/>
            <a:ext cx="152640" cy="2732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724280"/>
            <a:ext cx="152640" cy="2732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4724280"/>
            <a:ext cx="152280" cy="2732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4724280"/>
            <a:ext cx="152280" cy="2732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410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ole at z =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271000">
            <a:off x="4819320" y="5052600"/>
            <a:ext cx="1523880" cy="609480"/>
          </a:xfrm>
          <a:prstGeom prst="leftArrow">
            <a:avLst>
              <a:gd name="adj1" fmla="val 50000"/>
              <a:gd name="adj2" fmla="val 625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1B7-EEC6-4E7E-87DC-E5A61C2173D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A17C4-D546-47AB-810C-80E8D539EA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304920"/>
            <a:ext cx="7696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poles are inside the unit-circle except a pole at z = -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 at z = -1 drives the system to an oscillatory mode when the algorithm converges to the scaled eigenvalue (experimentally verified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819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o, what is the solution 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4290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the continuous time system at a higher rate, i.e., mak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 &lt; 1.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y value of T &lt; 1 will wor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23920" y="4286160"/>
                <a:ext cx="716292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T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828800" y="5943600"/>
            <a:ext cx="59436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change from the earlier for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5334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08C-6F93-4B66-A6BC-B6BCF25EA0B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B5257-8FBC-4E6E-AF65-478B3214DE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29528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371600"/>
            <a:ext cx="830592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lgorithm is on-line, local and computation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(linear in complex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ore tweaking of step-siz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ce is guarant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s have shown that the algorithm is bet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 many existing methods in terms of conv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and accuracy of the res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 is feasible for hardwar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2E9-C949-4B03-AF61-B7C89D1EC61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AA8C1-249E-462E-B9EF-C6DB65D729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al Compon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765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A solves the equation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V = V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is a full Covariance matrix, V is the eigenvector matrix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the eigenvalue matri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1262200">
            <a:off x="2327400" y="3909960"/>
            <a:ext cx="3530520" cy="2165400"/>
          </a:xfrm>
          <a:custGeom>
            <a:avLst/>
            <a:gdLst/>
            <a:ahLst/>
            <a:rect l="l" t="t" r="r" b="b"/>
            <a:pathLst>
              <a:path w="1193" h="1137">
                <a:moveTo>
                  <a:pt x="114" y="110"/>
                </a:moveTo>
                <a:cubicBezTo>
                  <a:pt x="98" y="135"/>
                  <a:pt x="69" y="164"/>
                  <a:pt x="44" y="181"/>
                </a:cubicBezTo>
                <a:cubicBezTo>
                  <a:pt x="19" y="217"/>
                  <a:pt x="8" y="224"/>
                  <a:pt x="0" y="269"/>
                </a:cubicBezTo>
                <a:cubicBezTo>
                  <a:pt x="2" y="322"/>
                  <a:pt x="2" y="394"/>
                  <a:pt x="13" y="449"/>
                </a:cubicBezTo>
                <a:cubicBezTo>
                  <a:pt x="15" y="461"/>
                  <a:pt x="26" y="469"/>
                  <a:pt x="31" y="480"/>
                </a:cubicBezTo>
                <a:cubicBezTo>
                  <a:pt x="42" y="502"/>
                  <a:pt x="46" y="525"/>
                  <a:pt x="57" y="546"/>
                </a:cubicBezTo>
                <a:cubicBezTo>
                  <a:pt x="66" y="596"/>
                  <a:pt x="106" y="616"/>
                  <a:pt x="145" y="643"/>
                </a:cubicBezTo>
                <a:cubicBezTo>
                  <a:pt x="162" y="655"/>
                  <a:pt x="174" y="669"/>
                  <a:pt x="194" y="678"/>
                </a:cubicBezTo>
                <a:cubicBezTo>
                  <a:pt x="210" y="696"/>
                  <a:pt x="222" y="712"/>
                  <a:pt x="242" y="727"/>
                </a:cubicBezTo>
                <a:cubicBezTo>
                  <a:pt x="280" y="755"/>
                  <a:pt x="316" y="767"/>
                  <a:pt x="339" y="811"/>
                </a:cubicBezTo>
                <a:cubicBezTo>
                  <a:pt x="361" y="853"/>
                  <a:pt x="363" y="931"/>
                  <a:pt x="387" y="965"/>
                </a:cubicBezTo>
                <a:cubicBezTo>
                  <a:pt x="419" y="1011"/>
                  <a:pt x="474" y="1035"/>
                  <a:pt x="528" y="1048"/>
                </a:cubicBezTo>
                <a:cubicBezTo>
                  <a:pt x="573" y="1071"/>
                  <a:pt x="624" y="1079"/>
                  <a:pt x="674" y="1088"/>
                </a:cubicBezTo>
                <a:cubicBezTo>
                  <a:pt x="738" y="1122"/>
                  <a:pt x="819" y="1121"/>
                  <a:pt x="889" y="1132"/>
                </a:cubicBezTo>
                <a:cubicBezTo>
                  <a:pt x="987" y="1129"/>
                  <a:pt x="1155" y="1137"/>
                  <a:pt x="1193" y="1013"/>
                </a:cubicBezTo>
                <a:cubicBezTo>
                  <a:pt x="1190" y="971"/>
                  <a:pt x="1186" y="941"/>
                  <a:pt x="1171" y="903"/>
                </a:cubicBezTo>
                <a:cubicBezTo>
                  <a:pt x="1165" y="855"/>
                  <a:pt x="1157" y="807"/>
                  <a:pt x="1140" y="762"/>
                </a:cubicBezTo>
                <a:cubicBezTo>
                  <a:pt x="1120" y="650"/>
                  <a:pt x="1089" y="589"/>
                  <a:pt x="1021" y="498"/>
                </a:cubicBezTo>
                <a:cubicBezTo>
                  <a:pt x="994" y="462"/>
                  <a:pt x="961" y="413"/>
                  <a:pt x="920" y="392"/>
                </a:cubicBezTo>
                <a:cubicBezTo>
                  <a:pt x="887" y="375"/>
                  <a:pt x="846" y="369"/>
                  <a:pt x="810" y="366"/>
                </a:cubicBezTo>
                <a:cubicBezTo>
                  <a:pt x="838" y="338"/>
                  <a:pt x="828" y="340"/>
                  <a:pt x="801" y="348"/>
                </a:cubicBezTo>
                <a:cubicBezTo>
                  <a:pt x="791" y="316"/>
                  <a:pt x="722" y="263"/>
                  <a:pt x="709" y="256"/>
                </a:cubicBezTo>
                <a:cubicBezTo>
                  <a:pt x="665" y="233"/>
                  <a:pt x="568" y="207"/>
                  <a:pt x="568" y="207"/>
                </a:cubicBezTo>
                <a:cubicBezTo>
                  <a:pt x="557" y="178"/>
                  <a:pt x="542" y="154"/>
                  <a:pt x="519" y="132"/>
                </a:cubicBezTo>
                <a:cubicBezTo>
                  <a:pt x="504" y="118"/>
                  <a:pt x="487" y="111"/>
                  <a:pt x="475" y="93"/>
                </a:cubicBezTo>
                <a:cubicBezTo>
                  <a:pt x="460" y="44"/>
                  <a:pt x="453" y="18"/>
                  <a:pt x="396" y="5"/>
                </a:cubicBezTo>
                <a:cubicBezTo>
                  <a:pt x="275" y="9"/>
                  <a:pt x="291" y="0"/>
                  <a:pt x="220" y="27"/>
                </a:cubicBezTo>
                <a:cubicBezTo>
                  <a:pt x="192" y="67"/>
                  <a:pt x="169" y="70"/>
                  <a:pt x="123" y="84"/>
                </a:cubicBezTo>
                <a:cubicBezTo>
                  <a:pt x="102" y="114"/>
                  <a:pt x="101" y="100"/>
                  <a:pt x="110" y="124"/>
                </a:cubicBezTo>
                <a:cubicBezTo>
                  <a:pt x="103" y="127"/>
                  <a:pt x="88" y="132"/>
                  <a:pt x="88" y="132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0119800">
            <a:off x="1847880" y="4695480"/>
            <a:ext cx="4545000" cy="8240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1475280" y="3932640"/>
            <a:ext cx="4651920" cy="165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9977600">
            <a:off x="2565720" y="501660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gnal 1 Sp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9977600">
            <a:off x="2216520" y="4350960"/>
            <a:ext cx="1974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gnal 2 Spa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879560" y="3416400"/>
            <a:ext cx="586728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0145000">
            <a:off x="6843240" y="3744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C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241400">
            <a:off x="1717560" y="3643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C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B59-69C2-4B9C-9FA0-B71C84CB44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65309-42D7-4922-BA46-E052CCD615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lien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18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onalization of the covariance matrix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743200"/>
            <a:ext cx="815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al signals, eigenvectors are eigenfilters and the eigenvalues sample the frequency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y orthogonality constraints and hence the outputs after an eigenfilter transformation are uncorrel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8120" y="2057400"/>
                <a:ext cx="1752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V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895480" y="5105520"/>
                <a:ext cx="3429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j&lt;i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188-3648-4CAA-AECE-881D48E633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A3423-7B51-4B6D-8A1A-7FAB50C9FF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rning Algorithms for PC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219320"/>
            <a:ext cx="71629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ien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minimization of cost functions - AP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bbian Lear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a’s rule, Sanger’s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pace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method, other PSA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F33-C41D-4213-BEFD-9FAFA62F3F4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21CA8-7B12-4C43-A96A-17D8A01605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lems With Existing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371600"/>
            <a:ext cx="75438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dient methods are s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y suffer from convergence problems. Their performance heavily depends on the step-siz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bbian based methods lack sp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Again, like the gradient methods, their performance is dependent on external fac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ast but it has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gh computational 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us it is unsuitable for real world applica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00E-B2FA-4A89-8773-6F926FEFAF3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EC2C5-BC8A-462F-8093-ED38D557CE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other Look at P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Goal is to develop an algorithm that is computationally tractable and stochastically s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352680" y="2590920"/>
                <a:ext cx="23623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Rw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066680" y="3594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124080" y="3886200"/>
                <a:ext cx="2286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w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Rw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w</m:t>
                        </m:r>
                      </m:den>
                    </m:f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943600" y="4114800"/>
                <a:ext cx="14479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85800" y="4800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ight update thus becomes (see paper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57320" y="5356080"/>
                <a:ext cx="513396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990720" y="20574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leigh-Ritz theorem states that eigenvalues are stationary points of the fun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781680" y="2743200"/>
                <a:ext cx="8463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20314800">
            <a:off x="4938840" y="3587400"/>
            <a:ext cx="2209680" cy="304920"/>
          </a:xfrm>
          <a:prstGeom prst="rightArrow">
            <a:avLst>
              <a:gd name="adj1" fmla="val 50000"/>
              <a:gd name="adj2" fmla="val 1811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886200"/>
            <a:ext cx="1143000" cy="11430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E64-E549-4145-914C-25E41342C18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27251-EFBD-4657-B939-0E1C4C36CC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80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rule can be further simplified 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143000" y="990720"/>
                <a:ext cx="3276720" cy="20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34120" y="1371600"/>
                <a:ext cx="27176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09480" y="3048120"/>
            <a:ext cx="83059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 step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ast converging and 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imple to implement (no matrix multipl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E1E-18CB-4B5E-9FC8-19BD0EDA660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27FDB-7FEA-4D49-9050-70F7AEDE9A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28600" y="533520"/>
          <a:ext cx="42670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267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"/>
          <p:cNvGrpSpPr/>
          <p:nvPr/>
        </p:nvGrpSpPr>
        <p:grpSpPr>
          <a:xfrm>
            <a:off x="0" y="533520"/>
            <a:ext cx="8763120" cy="5987520"/>
            <a:chOff x="0" y="533520"/>
            <a:chExt cx="8763120" cy="5987520"/>
          </a:xfrm>
        </p:grpSpPr>
        <p:graphicFrame>
          <p:nvGraphicFramePr>
            <p:cNvPr id="87" name=""/>
            <p:cNvGraphicFramePr/>
            <p:nvPr/>
          </p:nvGraphicFramePr>
          <p:xfrm>
            <a:off x="4267080" y="533520"/>
            <a:ext cx="4343400" cy="296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7080" y="533520"/>
                      <a:ext cx="4343400" cy="296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0" y="3452400"/>
            <a:ext cx="4419720" cy="3068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452400"/>
                      <a:ext cx="4419720" cy="30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1" name=""/>
            <p:cNvGrpSpPr/>
            <p:nvPr/>
          </p:nvGrpSpPr>
          <p:grpSpPr>
            <a:xfrm>
              <a:off x="4267080" y="3452400"/>
              <a:ext cx="4496040" cy="2993760"/>
              <a:chOff x="4267080" y="3452400"/>
              <a:chExt cx="4496040" cy="299376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4267080" y="3452400"/>
              <a:ext cx="4496040" cy="2993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67080" y="3452400"/>
                        <a:ext cx="4496040" cy="299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4" name=""/>
              <p:cNvSpPr/>
              <p:nvPr/>
            </p:nvSpPr>
            <p:spPr>
              <a:xfrm>
                <a:off x="5334120" y="4350600"/>
                <a:ext cx="289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Times New Roman"/>
                  </a:rPr>
                  <a:t>Eigenspread = 80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1511280" y="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erformance With a Violin Time Seri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C74-AC2B-4498-AEAA-17C28A82131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7EAF9-26AE-4008-8AE0-D523FFD621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vergence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86000" y="2133720"/>
                <a:ext cx="3962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33520" y="1219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inuous time, the differential equation governing the behavior of the system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048120"/>
            <a:ext cx="8153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Ljung’s technique, the stability of the above equation can been prov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 discrete time, the algorithm converges to a scaled version of the eigenvalue.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s is due to the mapping between the differential equations and difference eq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572-7609-4B88-89B8-3DE0B32C234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AB393-C05C-477E-A8B9-0DACCA6A2B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19:29:24Z</dcterms:created>
  <dc:creator>rao</dc:creator>
  <dc:description/>
  <dc:language>en-US</dc:language>
  <cp:lastModifiedBy>Jose Principe</cp:lastModifiedBy>
  <cp:lastPrinted>2000-09-24T18:45:12Z</cp:lastPrinted>
  <dcterms:modified xsi:type="dcterms:W3CDTF">2000-11-28T14:45:15Z</dcterms:modified>
  <cp:revision>146</cp:revision>
  <dc:subject/>
  <dc:title>Algorithms For Eigendecomposition &amp; Time Series Segmentation</dc:title>
</cp:coreProperties>
</file>