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483-6E92-4907-ACA4-AE25CFB7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5D3-820C-41B2-9D62-D350FB82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DE8-780F-48FD-8B65-365F4E2A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D93-3573-4221-9E60-36825EE2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3AFE-7CE0-4274-8666-EDF12658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E61-C845-4F3B-8CAA-2D1F90B0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325-2309-4FE9-89DD-71C0AFC0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2A1-C702-4355-913D-488B6D3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4491-8D89-406F-B273-086C255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59EC-703E-4233-A7CD-1ACA68A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0FE6-6C69-4621-8D71-F1FBA76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83D-5E9D-430B-9DA8-CBC3DC6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8F6-447A-4F72-8784-F7B460DB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4F53-FA10-4CE4-9DD4-7A85105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870-6C4A-4132-85FE-6FB863B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C2B2-B3D8-4563-B7FB-D84A8FB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B38-DBD7-464B-8BD4-401CA991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7CE-C078-4F95-86C8-AEE8C9FC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F26-2547-402A-B7C9-74D1D08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ED5-7326-4537-B553-6B9ADEEC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EF4-7BA2-4434-9C01-7FB4438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4CE-58EF-4774-B17A-F9DE0AD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633-5859-4CAE-83DC-6BAE6D10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1D0-468E-4BA9-BBFE-FE46350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39BC-7481-425E-B2E9-66BF07DB696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3E17-DD2F-49AD-8FF2-001E1743A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736-D07A-4164-A765-393C2FDD230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589-FD22-482A-93EA-B8138536A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CA Algorith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90720" y="1285920"/>
          <a:ext cx="7086600" cy="4657680"/>
        </p:xfrm>
        <a:graphic>
          <a:graphicData uri="http://schemas.openxmlformats.org/drawingml/2006/table">
            <a:tbl>
              <a:tblPr/>
              <a:tblGrid>
                <a:gridCol w="1600200"/>
                <a:gridCol w="1371600"/>
                <a:gridCol w="1066680"/>
                <a:gridCol w="1413000"/>
                <a:gridCol w="163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i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f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x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ID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a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P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AS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MS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PEX-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9" name=""/>
          <p:cNvGrpSpPr/>
          <p:nvPr/>
        </p:nvGrpSpPr>
        <p:grpSpPr>
          <a:xfrm>
            <a:off x="4457880" y="1895040"/>
            <a:ext cx="2768400" cy="3911760"/>
            <a:chOff x="4457880" y="1895040"/>
            <a:chExt cx="2768400" cy="3911760"/>
          </a:xfrm>
        </p:grpSpPr>
        <p:grpSp>
          <p:nvGrpSpPr>
            <p:cNvPr id="90" name=""/>
            <p:cNvGrpSpPr/>
            <p:nvPr/>
          </p:nvGrpSpPr>
          <p:grpSpPr>
            <a:xfrm>
              <a:off x="7226280" y="1895400"/>
              <a:ext cx="0" cy="3911400"/>
              <a:chOff x="7226280" y="1895400"/>
              <a:chExt cx="0" cy="3911400"/>
            </a:xfrm>
          </p:grpSpPr>
          <p:sp>
            <p:nvSpPr>
              <p:cNvPr id="91" name=""/>
              <p:cNvSpPr/>
              <p:nvPr/>
            </p:nvSpPr>
            <p:spPr>
              <a:xfrm>
                <a:off x="7226280" y="2378160"/>
                <a:ext cx="0" cy="30456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26280" y="291132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7226280" y="344448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226280" y="3978360"/>
                <a:ext cx="0" cy="30456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226280" y="4435560"/>
                <a:ext cx="0" cy="30456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26280" y="496872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226280" y="550188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26280" y="189540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457880" y="1895040"/>
              <a:ext cx="12600" cy="3911760"/>
              <a:chOff x="4457880" y="1895040"/>
              <a:chExt cx="12600" cy="3911760"/>
            </a:xfrm>
          </p:grpSpPr>
          <p:sp>
            <p:nvSpPr>
              <p:cNvPr id="100" name=""/>
              <p:cNvSpPr/>
              <p:nvPr/>
            </p:nvSpPr>
            <p:spPr>
              <a:xfrm>
                <a:off x="4470480" y="291132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4470480" y="344448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470480" y="3978360"/>
                <a:ext cx="0" cy="30456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470480" y="4435560"/>
                <a:ext cx="0" cy="30456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70480" y="504504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457880" y="550188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457880" y="240300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4457880" y="1895040"/>
                <a:ext cx="0" cy="30492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7DB-F74A-4973-8110-2B97BA6953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r PCA Algorith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600200"/>
            <a:ext cx="3949200" cy="4180680"/>
            <a:chOff x="533520" y="1600200"/>
            <a:chExt cx="3949200" cy="4180680"/>
          </a:xfrm>
        </p:grpSpPr>
        <p:grpSp>
          <p:nvGrpSpPr>
            <p:cNvPr id="110" name=""/>
            <p:cNvGrpSpPr/>
            <p:nvPr/>
          </p:nvGrpSpPr>
          <p:grpSpPr>
            <a:xfrm>
              <a:off x="533520" y="1600200"/>
              <a:ext cx="3345120" cy="4180680"/>
              <a:chOff x="533520" y="1600200"/>
              <a:chExt cx="3345120" cy="418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1577160" y="1600200"/>
                <a:ext cx="62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33"/>
                    </a:solidFill>
                    <a:latin typeface="Times New Roman"/>
                  </a:rPr>
                  <a:t>W</a:t>
                </a:r>
                <a:r>
                  <a:rPr b="1" lang="en-US" sz="2400" spc="-1" strike="noStrike" baseline="-25000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533520" y="2018160"/>
                <a:ext cx="3345120" cy="3762720"/>
                <a:chOff x="533520" y="2018160"/>
                <a:chExt cx="3345120" cy="376272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33520" y="2052720"/>
                  <a:ext cx="208800" cy="1393200"/>
                  <a:chOff x="533520" y="2052720"/>
                  <a:chExt cx="208800" cy="1393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533520" y="2052720"/>
                    <a:ext cx="208800" cy="2088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33520" y="3237120"/>
                    <a:ext cx="208800" cy="2088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2833200" y="2018160"/>
                  <a:ext cx="208800" cy="2088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833200" y="3202560"/>
                  <a:ext cx="208800" cy="2088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33520" y="4294440"/>
                  <a:ext cx="208800" cy="2088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520" y="5572080"/>
                  <a:ext cx="208800" cy="2088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49080" y="4805280"/>
                  <a:ext cx="0" cy="5576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2320" y="2157120"/>
                  <a:ext cx="2090880" cy="0"/>
                </a:xfrm>
                <a:prstGeom prst="line">
                  <a:avLst/>
                </a:prstGeom>
                <a:ln w="2844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42320" y="3341880"/>
                  <a:ext cx="2090880" cy="0"/>
                </a:xfrm>
                <a:prstGeom prst="line">
                  <a:avLst/>
                </a:prstGeom>
                <a:ln w="28440">
                  <a:solidFill>
                    <a:srgbClr val="99ff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742320" y="2203560"/>
                  <a:ext cx="2090880" cy="2172960"/>
                </a:xfrm>
                <a:prstGeom prst="line">
                  <a:avLst/>
                </a:prstGeom>
                <a:ln w="2844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742320" y="2226960"/>
                  <a:ext cx="2160360" cy="3414240"/>
                </a:xfrm>
                <a:prstGeom prst="line">
                  <a:avLst/>
                </a:prstGeom>
                <a:ln w="2844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742320" y="2147040"/>
                  <a:ext cx="2021040" cy="1194480"/>
                </a:xfrm>
                <a:prstGeom prst="line">
                  <a:avLst/>
                </a:prstGeom>
                <a:ln w="28440">
                  <a:solidFill>
                    <a:srgbClr val="ff00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320" y="2157120"/>
                  <a:ext cx="2090880" cy="1114920"/>
                </a:xfrm>
                <a:prstGeom prst="line">
                  <a:avLst/>
                </a:prstGeom>
                <a:ln w="28440">
                  <a:solidFill>
                    <a:srgbClr val="99ff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742320" y="3411360"/>
                  <a:ext cx="2090880" cy="975240"/>
                </a:xfrm>
                <a:prstGeom prst="line">
                  <a:avLst/>
                </a:prstGeom>
                <a:ln w="28440">
                  <a:solidFill>
                    <a:srgbClr val="99ff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42320" y="3411360"/>
                  <a:ext cx="2160360" cy="2299320"/>
                </a:xfrm>
                <a:prstGeom prst="line">
                  <a:avLst/>
                </a:prstGeom>
                <a:ln w="28440">
                  <a:solidFill>
                    <a:srgbClr val="99ff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11840" y="2087280"/>
                  <a:ext cx="766800" cy="1114920"/>
                </a:xfrm>
                <a:custGeom>
                  <a:avLst/>
                  <a:gdLst/>
                  <a:ahLst/>
                  <a:rect l="l" t="t" r="r" b="b"/>
                  <a:pathLst>
                    <a:path w="528" h="768">
                      <a:moveTo>
                        <a:pt x="0" y="0"/>
                      </a:moveTo>
                      <a:cubicBezTo>
                        <a:pt x="264" y="56"/>
                        <a:pt x="528" y="112"/>
                        <a:pt x="528" y="240"/>
                      </a:cubicBezTo>
                      <a:cubicBezTo>
                        <a:pt x="528" y="368"/>
                        <a:pt x="264" y="568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ff99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647000" y="4734000"/>
                  <a:ext cx="6271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ff33"/>
                      </a:solidFill>
                      <a:latin typeface="Times New Roman"/>
                    </a:rPr>
                    <a:t>W</a:t>
                  </a:r>
                  <a:r>
                    <a:rPr b="1" lang="en-US" sz="2400" spc="-1" strike="noStrike" baseline="-25000">
                      <a:solidFill>
                        <a:srgbClr val="99ff33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71440" y="2366280"/>
                  <a:ext cx="6271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99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99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3054240" y="2088000"/>
              <a:ext cx="76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4240" y="3295800"/>
              <a:ext cx="76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5440" y="18788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5440" y="31100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896000" y="3200400"/>
                <a:ext cx="40384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896000" y="1828800"/>
                <a:ext cx="40384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62280" y="4724280"/>
                <a:ext cx="61722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001-8C81-4F7D-BF9E-253EB9FD1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gener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81080" y="846000"/>
                <a:ext cx="49532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66680" y="2162160"/>
                <a:ext cx="7390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3770280"/>
                <a:ext cx="80010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19320" y="5173560"/>
                <a:ext cx="6705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94C-3DD1-4D1F-8102-9AE1EE9C2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9:46:26Z</dcterms:created>
  <dc:creator>rao</dc:creator>
  <dc:description/>
  <dc:language>en-US</dc:language>
  <cp:lastModifiedBy>rao</cp:lastModifiedBy>
  <dcterms:modified xsi:type="dcterms:W3CDTF">2004-02-18T16:19:06Z</dcterms:modified>
  <cp:revision>606</cp:revision>
  <dc:subject/>
  <dc:title>Robust PCA Using Fixed-Point Algorithms</dc:title>
</cp:coreProperties>
</file>