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3E4-6D9F-4066-AAED-74294C30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EF8-2FE0-4FB0-BD81-75F3B432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43E8-A898-494F-BB36-E218F9B6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7BD8-65A7-4416-9A15-86DC60E7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87B5-FA60-4389-985E-005AC8D6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1549-47D5-4B63-97B7-76AEC70D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2819-DF59-4DC6-9819-3EA7B62D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10F2-B074-4D5A-AA7C-54E0A793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7F76-82B6-431C-81F8-0DCE71A6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464B-F32B-443A-B0A1-1A1F9FCC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8267-7703-4017-9C18-1DB8A372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403-5B01-4B79-ABEA-8111A024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F2AB-AD74-4631-A17D-91717C32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7EBB-6A8D-4880-A375-6BE0DEF5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BBFC-3ABC-4251-ADEE-1C642460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A3E6-8125-4F2F-A983-21B80CF1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8D3C-D55E-4E78-BB14-66CCF5F3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477D-F203-4312-924D-CA2D7D4C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9CC-02F6-476A-A247-8802F1D0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E2C-28D6-4168-B1DF-0DCBFBC4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0A60-BC7A-40D6-8F35-15E08681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532-F1A2-4B10-B0EE-197BD02D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5BC-216A-450A-AFB4-C975E77A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373-75FE-4F0A-953E-A4BA23F8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52F6-E131-41FC-8182-C82B7ADBB14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A2BD-10C1-4375-A0B1-8A789A683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84FF-2498-4645-8CAD-F8B72F10826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CDDD-C8F1-494F-BD2F-EBA5B36B70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c80"/>
                </a:solidFill>
                <a:latin typeface="Times New Roman"/>
              </a:rPr>
              <a:t>Adaptive Subspace Estimation</a:t>
            </a:r>
            <a:br>
              <a:rPr sz="4400"/>
            </a:br>
            <a:r>
              <a:rPr b="1" lang="en-US" sz="4400" spc="-1" strike="noStrike">
                <a:solidFill>
                  <a:srgbClr val="ff7c80"/>
                </a:solidFill>
                <a:latin typeface="Times New Roman"/>
              </a:rPr>
              <a:t>PCA &amp; PS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adunandana N Ra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L 6935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atural Power Metho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philosophy can be extended for estimating minimum eigen vector. Build a matrix B = (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- C) every iteration.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the estimate of the maximum eigen value. Using the same Power method, compute the maximum eigen value for B matrix. Then, the minimum eigen value of C can be found ou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useful when we are just interested in finding maximum and minimum eigen vectors/valu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895480" y="5257800"/>
                <a:ext cx="2743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i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a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DF7A-EF6B-4FC2-BCB7-C670CDD26E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F5CD7-47F3-4F96-8AE8-F2AAA8CFD1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atural Power Metho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327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11D-E2DB-45A4-BF24-10920D3C61B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A5031-C325-4A76-A329-5B7EC2E039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IC Metho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is no constraint on the orthonormality of W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rgence properties are different from that of MS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dient Ascent algorith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ormance surface for NIC shows that the surface of NIC is steeper than that of MS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nce faster converg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have just one output dimension, then we get the eigen v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676520" y="5638680"/>
                <a:ext cx="5867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RW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D486-E90A-4E74-9145-9456C2FBBC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DFC9F-5556-4C0B-B076-35C4AE586B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I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8580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78EB-C2B2-438B-96C3-1896D35B3DA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1C337-16D2-4581-ACBC-BDC18D7B22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I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249960" cy="46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2FA2-7B19-4D05-A766-EEED37E75CA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564F1-4D93-4EB5-A075-686B868DB9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IC - Online Implement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is an online version of this algorithm that is very similar to RLS (Second order metho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828800" y="2743200"/>
                <a:ext cx="495288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</m:t>
                        </m:r>
                      </m:e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ε</m:t>
                        </m:r>
                        <m:r>
                          <m:rPr>
                            <m:lit/>
                            <m:nor/>
                          </m:rPr>
                          <m:t xml:space="preserve">rand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pdate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W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W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η</m:t>
                            </m:r>
                          </m:e>
                        </m:d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ηW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E747-93EA-4DCF-8002-89041CB275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58B37-001A-4665-A2D4-840CF78149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IC - Online Implement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162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D7D-D86F-4D12-9747-6D59A7688A3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65833-2C8D-48DC-AEC9-AEEEF2EE50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IC Examp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419720" cy="3562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317840" y="1905120"/>
            <a:ext cx="482616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62E-B64C-4E21-9E0B-752FCCA350E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83CDA-DB62-44C3-B6F6-F03CF40765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IC Examp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24996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844-1035-4BEC-9DE0-27BBC8A514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6B6E2-E22D-478C-85DF-D8877D7B55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AST Metho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T method follows the MSE criterion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lace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(i)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t-1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(i). That’s why the name Projection Approximation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changes the performance surface of J. For slowly varying signals, this results in very little error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not work well for sudden parameter change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905120" y="4419720"/>
                <a:ext cx="525780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H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H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H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H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β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H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1DC-EE83-492E-A999-277CC53C13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9AC84-E29B-4B8B-ABE3-80FA8322C0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Subspace estimation?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orithms for subspace estimation and trac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lying Subspace Techniques - Noise Cancel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CA vs. P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9588-280F-466A-9930-9214E5C391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D3F11-32ED-497C-802B-7DBC456920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AST - Online Implement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057400" y="1981080"/>
                <a:ext cx="472428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∇</m:t>
                        </m:r>
                        <m:r>
                          <m:t xml:space="preserve">J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LS</m:t>
                        </m:r>
                        <m:r>
                          <m:rPr>
                            <m:lit/>
                            <m:nor/>
                          </m:rPr>
                          <m:t xml:space="preserve">Vers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,2,3,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H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H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H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H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ABDF-9F09-4C33-9CD7-C74839E36FC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AF57C-752A-4B64-A096-D696EAA389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AS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9B0-3251-48F7-925E-E7EFBD9B2C1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2C803-3AD2-4206-8A8D-AA984263B9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oise Cancellation using PS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have a violin time series corrupted with noi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ise is additive and broadb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76520" y="3124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90720" y="3565440"/>
            <a:ext cx="175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Times New Roman"/>
              </a:rPr>
              <a:t>Eigen Decom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379404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Times New Roman"/>
              </a:rPr>
              <a:t>NIC  Meth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88620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324480" y="320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791320" y="3809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Times New Roman"/>
              </a:rPr>
              <a:t>PAST Meth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62520" y="4724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352680" y="5181480"/>
            <a:ext cx="175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Times New Roman"/>
              </a:rPr>
              <a:t>Power Meth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A64-D1F7-4FAA-8859-AFEDBD0B2D2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1E36E-EF02-468D-ABEA-DD0091B5ED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665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678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78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678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A is easier to estimate than P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fference between PCA and PSA is that PCA does diagonalization of the Covariance matrix, but PSA doesn’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A can be used for Noise Cancellation and Image Compression, but the results are sub optim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the algorithms implemented for PSA are second order methods, hence they exhibit better converg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wer Method gave the result closest to Eigen Decomposition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862-29DA-4EAF-8837-CE701FB4F0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4372A-796A-408D-B6DF-EBB01D3479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T - O(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where r = Output dimen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C - O(n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n = input dimen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WER - O(n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the PSA algorithms can be used to estimate eigen vectors by using the DEFLATION procedure similar to the APEX algorithm (II order metho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50E-8BEA-4A23-A8D8-3C60DBA8C4E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4156F-ADF2-4D81-8378-9B7AC7280F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ubspaces - What and Wh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91456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057400"/>
            <a:ext cx="609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2860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2374200"/>
            <a:ext cx="6858000" cy="34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A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ubset U of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ector spa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, which itself is a vector space, over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ame fie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: Signal subspace, Noise sub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in spectral analysis, data compression, noise removal etc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6DF1-0E85-4B15-8336-D673CFC23D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84517-851F-4EAF-A48F-F93D963896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daptive Algorithms for SS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n the data snap shots x(t), the goal is to estimate the signal subspace recursively. The problem is formulated into either of the following two optimization frame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cc"/>
                </a:solidFill>
                <a:latin typeface="Times New Roman"/>
              </a:rPr>
              <a:t>Variance Maximization</a:t>
            </a:r>
            <a:r>
              <a:rPr b="0" lang="en-US" sz="2400" spc="-1" strike="noStrike">
                <a:solidFill>
                  <a:srgbClr val="ffcccc"/>
                </a:solidFill>
                <a:latin typeface="Times New Roman"/>
              </a:rPr>
              <a:t> with a constrai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cc"/>
                </a:solidFill>
                <a:latin typeface="Times New Roman"/>
              </a:rPr>
              <a:t>Minimize the MSE reconstruction</a:t>
            </a:r>
            <a:r>
              <a:rPr b="0" lang="en-US" sz="2400" spc="-1" strike="noStrike">
                <a:solidFill>
                  <a:srgbClr val="ffcccc"/>
                </a:solidFill>
                <a:latin typeface="Times New Roman"/>
              </a:rPr>
              <a:t> of x from y, obtained after a linear transformation. Requires no constraint, the minimization will force the Orthonormality constrain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95280" y="5029200"/>
                <a:ext cx="7010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subject to 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85B0-1BA9-49E2-8775-7AE64FEE2F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DDC51-1E3E-4FA4-982D-48A89F0A46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daptive Algorithms for SSE…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econd method, is equivalent to the first. Also,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lumns of W are not necessarily the Eigen Vecto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the Autocorrelation R. It can be shown that the optimal solution is </a:t>
            </a: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W = T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where T = any square orthogonal matrix and U = Eigen Vector matrix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FE8-15B9-43B6-AE0D-812657078C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189E5-1C81-4B0A-897F-9763C8E61C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daptive Algorithms for SSE…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llowing methods implement subspace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lized Hebbian (GHA) or Sanger’s rule (PCA onl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ural Power Method (PCA and PS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l Information Criterion or NIC (PCA and PS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jection Approximation Subspace Tracking or PAST (PCA, PS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7267-738F-4176-A4D4-F0E6A86CCF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B20EC-EFC3-47C4-9647-0443788599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atural Power Metho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computing a principal subspace of dimension p, we can use the following update derived from the Power meth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76520" y="3276720"/>
                <a:ext cx="632448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  <m:s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W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p>
                                    <m:r>
                                      <m:t xml:space="preserve">H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V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igen vectors of 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H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α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H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0,1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480E-5780-4A11-8386-83EB81D638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135A1-D37E-40B9-A80B-C54DF1542E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atural Power Metho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26112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E3F-9226-4C9C-9AEF-33E3F6AF5F5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BECFF-4F6B-4B28-97E5-08DB92CCE3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atural Power Metho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205320" cy="405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EL 6935 Projec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891B-6172-4EBC-B67F-F85B466E524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63AED-6423-4DB8-AD8A-7955E286A9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5T01:38:59Z</dcterms:created>
  <dc:creator>rao</dc:creator>
  <dc:description/>
  <dc:language>en-US</dc:language>
  <cp:lastModifiedBy>rao</cp:lastModifiedBy>
  <cp:lastPrinted>1999-12-16T05:54:42Z</cp:lastPrinted>
  <dcterms:modified xsi:type="dcterms:W3CDTF">2004-04-01T16:47:42Z</dcterms:modified>
  <cp:revision>128</cp:revision>
  <dc:subject/>
  <dc:title>Clustering, HMMs and Speech Recognition</dc:title>
</cp:coreProperties>
</file>